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2FA-2627-42BA-9A25-217A8AF3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5CE-01D5-4D20-BD62-DFE16033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53B9E-03E1-466A-8294-8B8AFFEC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7D99-52F5-495E-A4C8-A6BC541E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74A54-1419-46FF-8D73-23F8070A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BFC25-B828-4672-8E41-028D1FDF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94393-4938-4EA3-AE98-F3961AF2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5B5DB-ABC4-4A54-BC9A-76EBDD3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5CE5A-ED50-4C78-A198-84058FA4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55675-07E1-4EC4-BC6F-9C488D24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6CB24-4F81-487F-A4FB-2E1E6652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09C7D-892C-4B4A-971B-CAAD2C9E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AC5-42D2-4745-93F1-8E1E2A68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7655C-3AA4-4ADF-AA78-03787055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15FC4-B06A-4617-AC7B-EE077618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5CEAC-500A-4F9A-9A32-490A4445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F0722-2435-4329-931F-80006EFC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D8F4F-BED1-4F3E-B506-5B4AB435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B6AA5-EBC4-4EF2-BFE9-40D0971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75021-5C87-48B5-905E-9A9CE3C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A293E-2D8D-4921-9A4C-125A5C5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F1ED8-FECC-4FCD-B6AE-6A68EDF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7616A-023E-4E02-9A3D-D4E3E1F9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5D5-1C05-4A34-8415-97D5733A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EECF6-3549-49AF-99FC-12774E23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C779-BD45-428C-B365-B648445A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498A6-0B67-4253-BD83-EDAA2758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1048D-81E3-424C-910B-21C4465C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6BF5B-3FB8-4605-B717-625E8E2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E480A-26EF-4517-B396-253F947A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72EE6-8BAD-490F-BACC-B1E9708E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958C6-E51E-452A-BCE4-DDFBD83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D6D7C-50CA-42B3-8FD4-E6B7E7D8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C9FA-784D-463C-AF44-BEE8198C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2C39-A6EE-4739-BEF5-F19FD265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0D5E2-7E57-4818-AAD7-B1E61E60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82CB3-E84F-43EE-8E99-DC122852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25FEA-2DC4-46FB-8874-61169C0C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FA212-863A-4BD4-BEE2-D0527E88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EC69F-AC57-476F-8AE8-21E0E5BF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B48A5-7EA4-45D7-8BDA-4DA120C9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761AE-0D34-4BD9-9667-D46E8739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794A0-EBCD-4152-B61A-18DF2222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D1517-5FFE-469D-B0CA-EA5B7BD8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C68B1-564E-441C-A0DF-F57659E6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C17A-33DE-4848-872B-FA5A0A2A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52CB6-7A38-4D4A-A3F3-093D643B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19710-8F52-4CE0-A4DF-022255A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A7DFD-C328-499E-A6A2-760F86CF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41DC2-7545-4426-BDC9-06CDF734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F527F-E590-4776-BDF5-218A39AF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65B84-BAFE-4746-9CFB-164B0A48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82580-9483-44C5-BA4A-33EADBAE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F523A-F9E6-45CF-885D-CED6DFD6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4D13B-21B6-44D5-86BF-A9AE3BDE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E2288-F361-45A0-B1C4-C9BF9786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E895-4BE6-4DB2-98DC-1A92CCF1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177B8-5FAF-4D2B-83FB-7C46E8DB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EE65D-1975-414C-A83C-D023249A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69074-691C-408B-B06B-5D07E1D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E7410-0A2A-4BBB-AB87-239AB4DD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6B29E-7377-4C04-A7CE-58000E3B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B12E9-5C68-4A3F-BCC5-DBB36944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1E594-FB1F-4E78-A051-50A8D8BC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8F2BF-798D-49E0-9D9D-14A11CAE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CB252-0AAA-4690-A0C9-E2A0AF4F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CDB60-3D40-4CDA-B702-18EB8D71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1C0-EEC4-4A04-B133-C8C789A2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64088-AE72-470C-B547-3925DD8A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7A80D-E7FA-4B1F-A806-0236AD9E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F2BEC-CB65-4883-986E-4BA9757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6973B-738C-4762-B65B-D01EF7A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81856-2378-4040-A77E-8B9E547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57780-0212-467A-A525-14C999E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064BF-A47B-4A57-B1F0-B156891E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A416F-6345-48CE-ADFB-C8768326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48722-E52A-419E-A011-B9E704A0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14D6A-4DBF-44BF-8225-871C2103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C6B-786E-4ABF-973C-73938028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D8BB3-0CF4-43C6-8181-C9BFA05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1332D-B685-4A6E-A481-3411CBBC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9D087-E58D-4F8F-AE1F-67A5F615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F7F1D-21B5-46B8-A097-092AA5A6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FEE37-E0E0-4115-BE33-E1A01BFC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97CD6-29DF-43AC-8AE4-6DEBB650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2CBA8-79A9-4F00-A53D-9F78D8E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C0ED7-DC3A-4542-B4F9-E1AB74C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BD081-6CA9-4800-97A6-3BEE94EA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CC621-183A-4B01-B4DE-651F04B0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A4A4-D33A-414E-8BE9-88492581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BFE9D-3507-439A-A0AB-0DA1A2BC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2EC7A-F3A2-489C-8D13-51BB4757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9FE57-AB7D-4A16-B7C5-F2342FDA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B0B92-2D31-4B59-A0DE-9CE26A38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0A9477-9541-45DE-B527-5CD32CFA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384C6-549F-4C83-A387-A1D37684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AD5B0-8146-48E9-A254-F559CEB8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B18C7-601E-4047-9A8E-4D49A341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A54A8-75A4-4868-ADC8-38C4C9A2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CD463-4BA5-44E7-A5AB-714EE24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DBED-3E22-41F2-80B3-24C3C1E1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ED4E0-9ED3-4D6C-BF20-932427D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BBC9A-DBA1-4F4F-8C94-AA4DDCED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B4461-D772-4959-8348-6283677E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500D3-E4B2-4905-A59D-B7E04B8F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9CA13-529B-42BD-A236-423F9D49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3979A-DEBF-48C4-BCD6-1A585E6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7E622-D612-43F6-95B5-0ED15308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7F670-7FBA-4C5B-B5A9-F73AA082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86749-EBB3-425F-9A63-D391154D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E3B405-8F55-40B1-80B1-7796FBF7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E94-F33F-4605-BFE8-08E86220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7F7D-753E-435E-9332-0DDE8354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8C0D0-B108-485E-BE20-491410D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85A81-4718-46B7-8BAC-3CE75D7A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27A98-48B0-4D68-971E-60CA464A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91663-DBC6-4B34-845E-3F6CD1DB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D72E16-CB7F-4B64-9F33-A26CF3A1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60D33-BC7F-4708-896A-07587799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2E6B2-7881-48B2-8E7A-00596A20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874A5-557B-40BC-94ED-FE22BE3F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F316B-3737-499D-B9C6-E707A71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41E8F5-AAB5-4C8C-BDB4-4BDE33C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5C19-0A9A-48E9-8531-1146B66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AAE90-A61F-4207-BC72-B3FF3635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944F68-6FE1-4AA6-A728-947490F4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19B171-5294-4AA5-A4D2-C1F6269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54206-3013-4E13-938B-257262D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C7791-7E34-437E-86F1-40284B7B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BAE1AA-1401-4EBF-A153-D4BCAC58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2FCF8-B697-4DB6-B5B2-FD119F23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CB697-3214-4C5A-BB7C-E8C07174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879030-47B8-4E6B-84BA-14B8DC25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B41B91-FA43-43AB-84EF-9807DF01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E533-0373-49A4-8682-2E653E87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99E57-72B2-4A72-81BF-010045A7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228A95-780C-4E7B-AFCC-D0D97F37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1C278-697A-4740-A7F1-32209E30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6C4BD-4300-4CC3-9EFC-EA050BAE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F8656-F7FA-43AD-A5FE-E7B834A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0A07B-6BEA-43A5-988F-6705EBF9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A098C-304D-4C8F-BBB9-00E4DBDC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868F4-4F8F-4A56-A862-FDB7A02C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47CC0-AAFF-4A13-80F0-38879B4F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78E55-D48D-4D4C-B49B-15303B0A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C513-745C-46CC-A121-6EF30B8B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891AE-5AE0-4A12-BECC-7303D5A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1D5B89-8013-4C07-854F-74EE8079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EAAF2-D86E-4C6E-898E-41616DEC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55A9B-EB99-4262-B089-BBB9741B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F7BA5-7310-4EC1-AD04-D56C0CD8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1DCC7-8C97-4FE5-B657-7E234DB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843CC-5291-41D8-823B-B456EFC9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FE6F7-AC73-4353-ADEF-D5BD4D2B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F5631D-CA47-422B-A5D0-68EFD2B6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87BEAE-8F40-4260-A38E-9D0DAA16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DF00-3FA0-4409-8BC9-0FCC8648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C1430-92E2-429E-BC3B-152D87D2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895DD-4203-4051-BFE6-5B1A8FAF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F44C65-8A36-487D-90D7-30986186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32425-989A-4EA2-8759-0B671717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E3F40-6DB9-48CA-8C4E-A5825F70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A29002-A408-4C3F-A4BA-C6923A96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30EF1D-415D-4AAF-B82B-9D65A5A0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FA964-5059-469B-B4B4-B5FC0E9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5839EC-D480-4160-9164-E8D6213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1E4CB2-FF50-489B-95DF-92727FF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7C24-88E8-4FCA-90E1-7360A960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3E668-E7AF-4E51-9257-567F02F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E942A-0F5B-4C6C-8846-047FB0FF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A2E871-9630-4384-936A-3D21D8E6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D732-8313-4572-B3DE-80FC3247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568C-C007-4EE8-BFC0-0BF714E2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A2F1-6432-493F-8EBC-C6818AFD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610C-88F3-4E3C-A59F-D704220A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5AA-7FFE-4573-9AE5-10E858B4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590F3-AC56-47FD-ACA6-E35EF009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948A-1040-4215-972C-DD1BD77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84C2-9258-42C6-9EA0-BB91CCA9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1E21-0E3C-4F10-ADE0-766ECEC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2EB1-004B-45D9-8E2D-823C278E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7A90-47E2-44B3-B2DB-8DD55BE7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F454-4954-4EA5-9EAF-ECE1AB12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4A603-573A-491E-9E65-49800938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EC68-D290-40CC-AC1C-0E8A1C7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997E-19E1-40F7-998E-2FF8D003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F96-77A1-429A-AD91-2691D270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BBEF-D745-4871-A32B-7AD7E64B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A064E-308A-43C4-90C2-1F5B95A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190C-D7C3-495A-966D-8F481FE0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AA3A-34C9-466A-8F32-58BF7E2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6700-C2DA-4446-9D76-9794B7A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BCB7-EF42-4650-A464-4F9398F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15647-92C0-4493-A22D-5DF717EA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0EDD5-D735-4320-90D1-FA1CAAE3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77B88-7953-4720-96F3-E38B8AF1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E5424-DC8B-4B9F-8B8F-C94A14B9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DE7-4194-4446-9BE1-8B27CB97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D98A3-5865-4351-B249-4728259F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D6C67-DABB-49BB-993E-78719ECA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5547-6FDD-4605-9936-61DBEFF4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BA54-1FF0-4366-B49A-3FAF612E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A8A46-22FD-4943-9F85-9157BCF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40267-DBDD-4ED5-9AA9-1B44D6E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4A5A-1E6F-45CD-B797-482BC35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1B84E-EDA1-4572-922E-AE61D9F1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4C934-56DF-4B11-9841-88730C49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3ACE6-AD9C-4475-8978-788789D2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361-685B-4F46-ACFB-411EF225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20E1-C4E0-4AC0-BC7B-E43AB72F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DFC9D-CA04-4332-8782-BD5B91C7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303C9-3525-47B0-BE1E-95144AA2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BBAFC-49A9-4DD8-9D5F-0CA3799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568D-14A8-4B93-8246-3F24D42E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C61B-3154-4ED7-B434-BF5AF0A0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EAE2-6850-442A-94CC-C46C7CEA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1412-165F-44DE-9188-46FB634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70502-EA67-4C44-95ED-3AF4F4C8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FB8CB-8E4E-491F-B538-CF40B6B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68D-3884-4DF3-90D0-5835B762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30F42-570C-4F4D-B4FD-312DFB28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F40AF-2BC9-4A95-9108-4A7BE0A2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4D6C-91FD-4157-8459-DFC54860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627A3-0750-49E1-8BA0-89B86355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95A0-E0DB-4B15-8D68-995DACED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34642-3C94-4977-B23B-6BB535F1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47FFE-FBD8-45E1-9FD1-E7DB5CC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A5008-E16D-4389-9CA6-2EA95134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562FE-39F4-4078-A697-F55850C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05A94-D0CC-472A-B7DB-F7D4DE0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C90-662F-410F-8EA6-2DFC962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0CA6E-4CEA-4BE9-B679-20DF916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86D5-4A66-4E6E-B89C-EF1AA299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66C4B-8AF6-4CC4-84A6-3977A346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AFB0B-5CFB-4E0B-B74E-7C71ECA8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5D217-5881-467A-9798-C215DFE1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96B67-2DDE-496D-9A83-978E0744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95386-C7AD-4ADE-80C3-7C9F1BD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E7802-B5D0-4573-9148-025E2DE1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32C68-9A4B-423D-8BB1-E855F30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0D7FB-9FD6-4A41-8BF7-132C6C13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061-EAEE-4C94-85C4-870AEA11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6C5B6-1A13-4E0F-B9F0-D8F652C0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97A77-2FCE-457B-8B9C-4FE2992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8BFB3-D916-45D8-AB6A-A577B958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08DE6-8CEE-43AA-ABF6-BD173DBD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EBD41-E7A2-4DB0-9D5E-7894DD7E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AC4EB-6526-4F77-8F6A-AE6F2F88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1A5B1-3998-4412-9D01-95A145FD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10FC6-FFF8-43DA-B170-C1E5AE04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36849-96EE-42AC-86C3-BF080AF8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2ACBE-77BE-4A88-92A3-2A682EC6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D23F-3C38-4519-B9AD-69FC2563E0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63CD-7380-4CCB-8C96-D96F1E1B22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FE78-364B-4895-B6CF-D68BD951D4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8B20-E83E-45F0-B393-53D6DC2C8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4A9D-1AB3-4958-979D-E8317651DF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47DD-E8BA-4319-AD14-5A09E956FF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ECDC-BBC0-420F-B035-AB7929F10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0FF-DC6A-43FE-B0DF-FAC15091B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3841-276F-4828-B368-CBCFA87C3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F44E-C1D7-4227-97A2-7F5A2936F5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495-4E5F-4DC9-97AA-EC58AAD7C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2E7E-C6A8-4860-95C8-D064B340EF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4EC1-F56E-4914-959B-C878135AB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3CAA-A4B5-4156-8DCB-39AA0E2526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1236-DEB2-46BD-93AD-0329449B33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810A-3E6F-40E5-881F-0C422040EB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0222-C9AA-44E2-8EC9-4C44DC2916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8200-BE4B-4F03-83E7-FAEDB650E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25E9-291B-4EB2-8C28-AE0D943006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D994-9F4F-4C02-93DD-1594BFCABF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F2DF-7BE8-475E-85F8-9EFF23EDE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2251-E035-456B-B71B-89661E9815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37A-917D-466B-AE8A-44FCD1582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A07D-3036-43B8-9DAE-C6FFF13FE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E810-F454-4CDB-B51E-8F2BB5ABF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8115-39E8-4883-A41D-6A3796360C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8FA-F514-4770-A40C-842D5EB0C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B051-4053-41E6-B5B8-66DCCCF657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25A5-B1B0-41AE-9AA5-F1DCD6BFB1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C42-27A1-4947-A81F-7674A81077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2681-2B35-4538-BF5F-DB3C9A63F7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2F6-E75F-4CD4-A9E7-C9F7D709B5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12BF-1A9E-4D71-A798-FE65FEA46D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D6C6-A0DF-4D43-B44C-6A059D862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9135-2FF0-488A-B2BC-C111ADB656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AB5-D5DB-4C3E-AD33-653D0265B9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DD4E-D3E3-4DE1-8024-A944B100B8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6802-2F80-45CB-BADF-FC2DC3BF06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F88B-55C9-4FF0-97ED-76E2DC0AF0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E84E-ECDD-44E4-933E-B097879AA8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0000" y="3119400"/>
            <a:ext cx="3924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04640" y="1228680"/>
            <a:ext cx="8334720" cy="4400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879560" y="24782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898640" y="2809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898640" y="314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914640" y="24732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14640" y="2809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905280" y="3141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796000" y="24638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796000" y="27907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940360" y="314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082000" y="24638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956720" y="2800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956720" y="3151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234000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13200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841920" y="51577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4633920" y="5157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529272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608472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680400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596360" y="516744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4680" y="2085840"/>
            <a:ext cx="9134640" cy="2686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223200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11280" y="3203640"/>
            <a:ext cx="4176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22320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8373" descr=""/>
          <p:cNvPicPr/>
          <p:nvPr/>
        </p:nvPicPr>
        <p:blipFill>
          <a:blip r:embed="rId1"/>
          <a:stretch/>
        </p:blipFill>
        <p:spPr>
          <a:xfrm>
            <a:off x="4680" y="1128600"/>
            <a:ext cx="9134640" cy="46008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468360" y="2266920"/>
            <a:ext cx="23032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468360" y="2584440"/>
            <a:ext cx="230328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250920" y="5425920"/>
            <a:ext cx="2303280" cy="257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8459640" y="2421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8459640" y="2809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8459640" y="3222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845964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9"/>
          <a:stretch/>
        </p:blipFill>
        <p:spPr>
          <a:xfrm>
            <a:off x="8459640" y="4076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0"/>
          <a:stretch/>
        </p:blipFill>
        <p:spPr>
          <a:xfrm>
            <a:off x="8459640" y="4446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1"/>
          <a:stretch/>
        </p:blipFill>
        <p:spPr>
          <a:xfrm>
            <a:off x="8459640" y="4878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2"/>
          <a:stretch/>
        </p:blipFill>
        <p:spPr>
          <a:xfrm>
            <a:off x="8459640" y="530064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0:5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